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4815-A3C3-4794-85B9-003591BC1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82F-6B3D-485B-854C-5076E2539B56}" type="slidenum">
              <a:rPr b="0" lang="en-US" sz="1200" spc="-1" strike="noStrike">
                <a:solidFill>
                  <a:srgbClr val="4c4c4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9C7B-62F5-4E47-A0C4-58D5F56FA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7A7B-94E9-4E1C-8793-3D453BE40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906F-2081-47CA-8B31-39A5CF3A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1121-ECB2-46CE-84DD-23405236B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32C7-BC53-4DC1-8C03-81876B5E0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AAD1-2A0E-42BB-8FE0-FFB24A8E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43EB-1184-4D2B-B5CC-A459D22C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A6DD-10D2-4530-927F-662EF60B4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BEDC-4136-4E5C-A6F1-1D94AEEB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6BC7-E392-4266-BD00-A77105696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C092-060A-418B-81FF-101AE506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FFDF-32DC-4D68-9146-C9AD0E88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35AF7-0FF5-4365-A264-6B74FD68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3F88-5C13-46AC-93A0-38ABEC51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665D-ED47-4575-8D0D-F0846F4D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CBB0-F980-4B9E-94BC-955887411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533040"/>
            <a:ext cx="264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979A-1A1B-47E3-B97A-895D64DA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9D8-6F11-411C-A5FF-66D024A3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200-E1B9-4D26-8A4C-DA43C7FC7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91A-FD1F-4EAA-8F22-5753B581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A8F7-CB0C-4A66-8B05-144B6733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3FB2-AD55-42DF-9AD0-FCB4494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5330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6186-6376-4D94-A273-512D4EA1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533040"/>
            <a:ext cx="8229600" cy="17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82E-90A8-4E6D-931B-9A112284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746D-A443-4FD1-BE26-4278ADDD40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6" name="Picture 25" descr="flagukleft"/>
          <p:cNvPicPr/>
          <p:nvPr/>
        </p:nvPicPr>
        <p:blipFill>
          <a:blip r:embed="rId2"/>
          <a:srcRect l="4850" t="1076" r="50740" b="2148"/>
          <a:stretch/>
        </p:blipFill>
        <p:spPr>
          <a:xfrm>
            <a:off x="0" y="0"/>
            <a:ext cx="47991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3" descr="flaguk3"/>
          <p:cNvPicPr/>
          <p:nvPr/>
        </p:nvPicPr>
        <p:blipFill>
          <a:blip r:embed="rId2"/>
          <a:srcRect l="5952" t="45" r="8551" b="217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18"/>
          <p:cNvSpPr/>
          <p:nvPr/>
        </p:nvSpPr>
        <p:spPr>
          <a:xfrm rot="19237200">
            <a:off x="4622760" y="518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1" marL="660960" indent="-25416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2" marL="1017000" indent="-203400">
              <a:spcBef>
                <a:spcPts val="799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3" marL="1424160" indent="-203400">
              <a:spcBef>
                <a:spcPts val="799"/>
              </a:spcBef>
              <a:buClr>
                <a:srgbClr val="4c4c4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4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5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lvl="6" marL="1830960" indent="-203400">
              <a:spcBef>
                <a:spcPts val="799"/>
              </a:spcBef>
              <a:buClr>
                <a:srgbClr val="4c4c4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4c4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c4c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960A-A641-4528-894D-C142601E490B}" type="slidenum">
              <a:rPr b="0" lang="en-US" sz="1400" spc="-1" strike="noStrike">
                <a:solidFill>
                  <a:srgbClr val="4c4c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5"/>
          <p:cNvSpPr/>
          <p:nvPr/>
        </p:nvSpPr>
        <p:spPr>
          <a:xfrm>
            <a:off x="3870360" y="1719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4" name="Text Box 58"/>
          <p:cNvSpPr/>
          <p:nvPr/>
        </p:nvSpPr>
        <p:spPr>
          <a:xfrm>
            <a:off x="898560" y="301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0" y="1914480"/>
            <a:ext cx="94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Молодежный сленг в английском языке 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6" name="Rectangle 63"/>
          <p:cNvSpPr/>
          <p:nvPr/>
        </p:nvSpPr>
        <p:spPr>
          <a:xfrm>
            <a:off x="2629080" y="24444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ОШ № 13 г.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авлодара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7" name="Rectangle 66"/>
          <p:cNvSpPr/>
          <p:nvPr/>
        </p:nvSpPr>
        <p:spPr>
          <a:xfrm>
            <a:off x="460800" y="4473720"/>
            <a:ext cx="50360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Презентацию подготовила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ченица 8 «А» класса Ермагамбет Фэридэ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Руководитель: учитель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нглийского языка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Бейсекеева И. А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  <p:sp>
        <p:nvSpPr>
          <p:cNvPr id="98" name="Rectangle 67"/>
          <p:cNvSpPr/>
          <p:nvPr/>
        </p:nvSpPr>
        <p:spPr>
          <a:xfrm>
            <a:off x="3673800" y="6400800"/>
            <a:ext cx="121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1919"/>
                </a:solidFill>
                <a:latin typeface="Arial"/>
              </a:rPr>
              <a:t>2012 г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6000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"/>
          <p:cNvSpPr/>
          <p:nvPr/>
        </p:nvSpPr>
        <p:spPr>
          <a:xfrm>
            <a:off x="263520" y="438480"/>
            <a:ext cx="888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93939"/>
                </a:solidFill>
                <a:latin typeface="Comic Sans MS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393939"/>
                </a:solidFill>
                <a:latin typeface="Comic Sans MS"/>
                <a:ea typeface="Times New Roman"/>
              </a:rPr>
              <a:t>Список наиболее употребляемых слов в речи школьников СОШ № 13 г. Павлодара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395360" y="1174680"/>
          <a:ext cx="7261200" cy="5537160"/>
        </p:xfrm>
        <a:graphic>
          <a:graphicData uri="http://schemas.openxmlformats.org/drawingml/2006/table">
            <a:tbl>
              <a:tblPr/>
              <a:tblGrid>
                <a:gridCol w="2484360"/>
                <a:gridCol w="2482920"/>
                <a:gridCol w="2293920"/>
              </a:tblGrid>
              <a:tr h="28260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лово в русском язык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ексическое значени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Английское слов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86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ойфрен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руг, парен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boyfriend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О</a:t>
                      </a: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’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е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се в порядк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OK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ат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ечерин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part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герл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евочка, девуш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gir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анч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Обе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lunch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уикенд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ыходны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weekend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ха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риве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hi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ул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руто, прикольн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coo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Вау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упер, блистательн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wow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а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ок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by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е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Ай</a:t>
                      </a: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’</a:t>
                      </a: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л би бэк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Я вернус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I’ll be back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Мэйк ап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макияж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Make up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оппинг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Поход по магазинам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opping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ё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Черт!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it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орэв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навсегда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orever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47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ейс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лицо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ace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08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респек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Уважение, уважать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Respect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крейз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умашедший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Craz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сорр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Извини, прости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orry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ат ап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Заткнись 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ut up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652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шут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блин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shoot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5800"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фул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 w="5760">
                      <a:solidFill>
                        <a:srgbClr val="e2e2e2"/>
                      </a:solidFill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дурак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040" rIns="680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c4c4c"/>
                          </a:solidFill>
                          <a:latin typeface="Comic Sans MS"/>
                        </a:rPr>
                        <a:t>fool</a:t>
                      </a:r>
                      <a:endParaRPr b="0" lang="en-US" sz="1400" spc="-1" strike="noStrike">
                        <a:solidFill>
                          <a:srgbClr val="4c4c4c"/>
                        </a:solidFill>
                        <a:latin typeface="Arial"/>
                      </a:endParaRPr>
                    </a:p>
                  </a:txBody>
                  <a:tcPr anchor="t" marL="68040" marR="68040">
                    <a:lnL>
                      <a:noFill/>
                    </a:lnL>
                    <a:lnR w="5760">
                      <a:solidFill>
                        <a:srgbClr val="e2e2e2"/>
                      </a:solidFill>
                    </a:lnR>
                    <a:lnT w="5760">
                      <a:solidFill>
                        <a:srgbClr val="e2e2e2"/>
                      </a:solidFill>
                    </a:lnT>
                    <a:lnB w="5760">
                      <a:solidFill>
                        <a:srgbClr val="e2e2e2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advTm="85000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30320" y="456840"/>
            <a:ext cx="7850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93939"/>
                </a:solidFill>
                <a:latin typeface="Comic Sans MS"/>
              </a:rPr>
              <a:t> </a:t>
            </a:r>
            <a:r>
              <a:rPr b="0" lang="ru-RU" sz="3600" spc="-1" strike="noStrike">
                <a:solidFill>
                  <a:srgbClr val="393939"/>
                </a:solidFill>
                <a:latin typeface="Comic Sans MS"/>
              </a:rPr>
              <a:t>Результаты анкетирования     учащихся СОШ № 13 г. Павлодара</a:t>
            </a:r>
            <a:endParaRPr b="0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21920" y="1599840"/>
            <a:ext cx="73645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Как часто Вы употребляете англоязычный сленг в своей речи?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1" name="Диаграмма 3" descr=""/>
          <p:cNvPicPr/>
          <p:nvPr/>
        </p:nvPicPr>
        <p:blipFill>
          <a:blip r:embed="rId1"/>
          <a:stretch/>
        </p:blipFill>
        <p:spPr>
          <a:xfrm>
            <a:off x="1584360" y="3097080"/>
            <a:ext cx="6827760" cy="3432240"/>
          </a:xfrm>
          <a:prstGeom prst="rect">
            <a:avLst/>
          </a:prstGeom>
          <a:ln w="0">
            <a:noFill/>
          </a:ln>
        </p:spPr>
      </p:pic>
    </p:spTree>
  </p:cSld>
  <p:transition advTm="40000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468080" y="1201680"/>
            <a:ext cx="721836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Где Вы наиболее часто употребляете этот сленг?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3" name="Диаграмма 3" descr=""/>
          <p:cNvPicPr/>
          <p:nvPr/>
        </p:nvPicPr>
        <p:blipFill>
          <a:blip r:embed="rId1"/>
          <a:stretch/>
        </p:blipFill>
        <p:spPr>
          <a:xfrm>
            <a:off x="858960" y="2365200"/>
            <a:ext cx="8029440" cy="4211640"/>
          </a:xfrm>
          <a:prstGeom prst="rect">
            <a:avLst/>
          </a:prstGeom>
          <a:ln w="0">
            <a:noFill/>
          </a:ln>
        </p:spPr>
      </p:pic>
    </p:spTree>
  </p:cSld>
  <p:transition advTm="12000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358640" y="325440"/>
            <a:ext cx="7327800" cy="30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 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Знаете ли Вы значения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оязычного сленга,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которые Вы употребляете в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воей речи?                     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5" name="Диаграмма 3" descr=""/>
          <p:cNvPicPr/>
          <p:nvPr/>
        </p:nvPicPr>
        <p:blipFill>
          <a:blip r:embed="rId1"/>
          <a:stretch/>
        </p:blipFill>
        <p:spPr>
          <a:xfrm>
            <a:off x="1011240" y="2766960"/>
            <a:ext cx="7840800" cy="3664080"/>
          </a:xfrm>
          <a:prstGeom prst="rect">
            <a:avLst/>
          </a:prstGeom>
          <a:ln w="0">
            <a:noFill/>
          </a:ln>
        </p:spPr>
      </p:pic>
    </p:spTree>
  </p:cSld>
  <p:transition advTm="11000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176480" y="909720"/>
            <a:ext cx="771840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Почему Вы употребляете сленг в своей речи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7" name="Диаграмма 3" descr=""/>
          <p:cNvPicPr/>
          <p:nvPr/>
        </p:nvPicPr>
        <p:blipFill>
          <a:blip r:embed="rId1"/>
          <a:stretch/>
        </p:blipFill>
        <p:spPr>
          <a:xfrm>
            <a:off x="1122480" y="2548080"/>
            <a:ext cx="7399080" cy="415116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56880" y="288720"/>
            <a:ext cx="8186760" cy="20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Где Вы впервые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столкнулись с этими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словами?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1100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29" name="Диаграмма 3" descr=""/>
          <p:cNvPicPr/>
          <p:nvPr/>
        </p:nvPicPr>
        <p:blipFill>
          <a:blip r:embed="rId1"/>
          <a:stretch/>
        </p:blipFill>
        <p:spPr>
          <a:xfrm>
            <a:off x="1603440" y="2328840"/>
            <a:ext cx="7321320" cy="391968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212480" y="361800"/>
            <a:ext cx="747396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лышали ли Вы в речи своих      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сверстников молодежный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оязычный сленг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1" name="Диаграмма 3" descr=""/>
          <p:cNvPicPr/>
          <p:nvPr/>
        </p:nvPicPr>
        <p:blipFill>
          <a:blip r:embed="rId1"/>
          <a:stretch/>
        </p:blipFill>
        <p:spPr>
          <a:xfrm>
            <a:off x="1536840" y="2255760"/>
            <a:ext cx="7156440" cy="4284720"/>
          </a:xfrm>
          <a:prstGeom prst="rect">
            <a:avLst/>
          </a:prstGeom>
          <a:ln w="0">
            <a:noFill/>
          </a:ln>
        </p:spPr>
      </p:pic>
    </p:spTree>
  </p:cSld>
  <p:transition advTm="16000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1176480" y="252000"/>
            <a:ext cx="75103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Укажите наиболее часто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употребляемые слова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английского сленга в вашей 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	</a:t>
            </a:r>
            <a:r>
              <a:rPr b="0" lang="ru-RU" sz="3600" spc="-1" strike="noStrike">
                <a:solidFill>
                  <a:srgbClr val="4c4c4c"/>
                </a:solidFill>
                <a:latin typeface="Comic Sans MS"/>
              </a:rPr>
              <a:t>речи? </a:t>
            </a: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33" name="Диаграмма 3" descr=""/>
          <p:cNvPicPr/>
          <p:nvPr/>
        </p:nvPicPr>
        <p:blipFill>
          <a:blip r:embed="rId1"/>
          <a:stretch/>
        </p:blipFill>
        <p:spPr>
          <a:xfrm>
            <a:off x="2193840" y="2584440"/>
            <a:ext cx="6181920" cy="4280040"/>
          </a:xfrm>
          <a:prstGeom prst="rect">
            <a:avLst/>
          </a:prstGeom>
          <a:ln w="0">
            <a:noFill/>
          </a:ln>
        </p:spPr>
      </p:pic>
    </p:spTree>
  </p:cSld>
  <p:transition advTm="47000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"/>
          <p:cNvSpPr/>
          <p:nvPr/>
        </p:nvSpPr>
        <p:spPr>
          <a:xfrm>
            <a:off x="1440000" y="457920"/>
            <a:ext cx="7500960" cy="417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Заключение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  <a:ea typeface="Times New Roman"/>
              </a:rPr>
              <a:t>    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Проведенное исследование показало, что сленг является экспрессивной и эмоционально - окрашенной лексикой, что он характеризуется фамильярной окраской и делится на две группы: общеупотребительный и общеизвестный сленг, а также что жаргон молодежи имеет большое разнообразие оттенков и что многие слова непонятны для основной массы населения.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Что касается условий функционирования, то нами было выявлено, что школьники употребляют сленг в повседневной жизни для обозначения разных специальностей, для названия учебных предметов, относящихся к студенческой жизни, для обозначения различных зданий и аудиторий. 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c4c4c"/>
                </a:solidFill>
                <a:latin typeface="Comic Sans MS"/>
              </a:rPr>
              <a:t>Сленг играет очень важную роль в жизни молодежи, ее жизнь сегодня уже немыслима без сленга, который он не только помогает молодым людям общаться между собой, но и облегчает процесс усвоения новой иностранной лексики, расширяя словарный запас.</a:t>
            </a: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91000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C:\Users\Ильмира\Desktop\картинки англ. яз\time-to-say-good-bye.jpg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p:transition advTm="25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Актуальность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12480" y="982440"/>
            <a:ext cx="747396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c4c4c"/>
                </a:solidFill>
                <a:uFillTx/>
                <a:latin typeface="Comic Sans MS"/>
              </a:rPr>
              <a:t>Молодёжный сленг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– одно из составляющих процесса развития языка, его пополнения, его многообразия. Ведь язык не может развиваться сам по себе, обладая мистической и мифической субъектностью. Его развивают. Он вбирает в себя другие языки за счет коммуникации в наш более технический век. И, безусловно, язык формируют поэты и писатели, мастера слова. Молодёжный сленг должны знать все, кто хочет более активно, на хорошем уровне взаимодействовать с окружающим нас миром, а значит, хорошо владеть основным международным языком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0000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Цель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358640" y="799920"/>
            <a:ext cx="7327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Произвести комплексное описание молодёжного сленга как одной из подсистем современного русского и английского языка, выявить его дифференцирующие признаки, описать особенности употребления сленгизмов, установить значение сленговых единиц и выражений,  изучить , на сколько широко используется англоязычный </a:t>
            </a:r>
            <a:r>
              <a:rPr b="1" i="1" lang="ru-RU" sz="1800" spc="-1" strike="noStrike">
                <a:solidFill>
                  <a:srgbClr val="4c4c4c"/>
                </a:solidFill>
                <a:latin typeface="Comic Sans MS"/>
              </a:rPr>
              <a:t>сленг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 речи школьников</a:t>
            </a:r>
            <a:r>
              <a:rPr b="1" i="1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и выявить наиболее часто используемый сленг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ыше обозначенная цель была реализована через следующие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Задачи: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определить объём и содержание понятия "сленг";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выявить место молодёжного сленга в системе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овременного русского и английского языков;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рассмотреть различные виды сленга, привести примеры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употребления сленгизмов и предоставить адекватный перевод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35000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Объект исследования</a:t>
            </a:r>
            <a:r>
              <a:rPr b="1" lang="ru-RU" sz="4400" spc="-1" strike="noStrike">
                <a:solidFill>
                  <a:srgbClr val="393939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12480" y="982440"/>
            <a:ext cx="747396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олодежный сленг как составная часть более широкого образования в современном английском языке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Предмет исследования: 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ловообразовательный, лексико – фразеологический и стилистический уровни молодежного сленга, а также словосочетания, фразеологизмы, употребляющиеся для экспрессивного обозначение предметов, понятий, признаков действий и состояний, связанных с учебной  деятельностью, общекультурными интересами и бытом современной молодежи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9000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Гипотеза: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76120" y="1599840"/>
            <a:ext cx="766764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              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Если изучить сленгизмы, пришедшие из английского                                                                                                               языка в русский язык, тогда можно выявить способы образования сленгизмов, а также пути пополнения словарного запаса школьника.   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c4c4c"/>
                </a:solidFill>
                <a:latin typeface="Comic Sans MS"/>
              </a:rPr>
              <a:t>    </a:t>
            </a:r>
            <a:r>
              <a:rPr b="0" lang="ru-RU" sz="4400" spc="-1" strike="noStrike">
                <a:solidFill>
                  <a:srgbClr val="4c4c4c"/>
                </a:solidFill>
                <a:latin typeface="Comic Sans MS"/>
              </a:rPr>
              <a:t>Методы исследования:</a:t>
            </a:r>
            <a:endParaRPr b="0" lang="en-US" sz="44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анкетирование;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наблюдение;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сравнительный анализ;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lvl="2" marL="1040040" indent="-2077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900" spc="-1" strike="noStrike">
                <a:solidFill>
                  <a:srgbClr val="4c4c4c"/>
                </a:solidFill>
                <a:latin typeface="Comic Sans MS"/>
              </a:rPr>
              <a:t>обобщение. 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c4c4c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76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21000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:\Users\Ильмира\Desktop\картинки англ. яз\English_Songs_For_Kids.jpg"/>
          <p:cNvPicPr/>
          <p:nvPr/>
        </p:nvPicPr>
        <p:blipFill>
          <a:blip r:embed="rId1"/>
          <a:stretch/>
        </p:blipFill>
        <p:spPr>
          <a:xfrm>
            <a:off x="5907240" y="3614760"/>
            <a:ext cx="3260520" cy="3005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Молодёжная культура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49200" y="1417320"/>
            <a:ext cx="74376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c4c4c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4c4c4c"/>
                </a:solidFill>
                <a:latin typeface="Comic Sans MS"/>
              </a:rPr>
              <a:t>это свой, ни на что не похожий мир. Он отличается от взрослого своей экспрессивной, порой даже резкой и грубой, манерой выражать мысли, который могут употреблять только молодые люди, смелые и решительные, создавшие свой неповторимый мир. Как следствие этого - возникновение молодёжного сленга.</a:t>
            </a:r>
            <a:endParaRPr b="0" lang="en-US" sz="20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27000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85920" y="507600"/>
            <a:ext cx="7400880" cy="635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4c4c4c"/>
                </a:solidFill>
                <a:uFillTx/>
                <a:latin typeface="Comic Sans MS"/>
              </a:rPr>
              <a:t>Сленг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- это не литературная лексика, т.е. это слова и сочетания, находящиеся за пределами литературного английского (Standard English), он возник и употребляется прежде всего в устной речи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Это эмоционально окрашенная лексика;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Фамильярная эмоциональная окраска многих слов и выражений сленга отличается большим разнообразием оттенков (шутливая, ироническая, насмешливая, пренебрежительная, презрительная, грубая и даже вульгарная);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ногие слова и выражения сленга непонятны или малопонятны для основной массы населения (особенно в период их возникновения и перехода в более широкую сферу употребления), потому что они, прежде всего, связаны со своеобразной формой выражения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Сленг - это живой, подвижный язык, который идет в ногу со временем и реагирует на любые перемены в жизни страны и общества.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4c4c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9000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Факторы, влияющие на развитие сленга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285920" y="1599840"/>
            <a:ext cx="740088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Развитие компьютерных технологий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Современная музыкальная культура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Английский язык, немецкий и французский язык   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компьютерные игры, видео, мультфильмы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4c4c4c"/>
                </a:solidFill>
                <a:latin typeface="Comic Sans MS"/>
              </a:rPr>
              <a:t>хобби и увлечения молодых людей </a:t>
            </a: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c4c4c"/>
              </a:solidFill>
              <a:latin typeface="Arial"/>
            </a:endParaRPr>
          </a:p>
        </p:txBody>
      </p:sp>
      <p:pic>
        <p:nvPicPr>
          <p:cNvPr id="113" name="Picture 2" descr="C:\Users\Ильмира\Desktop\картинки англ. яз\animated_pencil_3.gif"/>
          <p:cNvPicPr/>
          <p:nvPr/>
        </p:nvPicPr>
        <p:blipFill>
          <a:blip r:embed="rId1"/>
          <a:stretch/>
        </p:blipFill>
        <p:spPr>
          <a:xfrm>
            <a:off x="7153200" y="4925880"/>
            <a:ext cx="1533600" cy="1533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ransition advTm="18000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Ильмира\Desktop\картинки англ. яз\85716532_KopiyalogoSpeakEnglish1283x300.jpg"/>
          <p:cNvPicPr/>
          <p:nvPr/>
        </p:nvPicPr>
        <p:blipFill>
          <a:blip r:embed="rId1"/>
          <a:stretch/>
        </p:blipFill>
        <p:spPr>
          <a:xfrm>
            <a:off x="5850000" y="4560840"/>
            <a:ext cx="1968480" cy="20876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     </a:t>
            </a:r>
            <a:r>
              <a:rPr b="0" lang="ru-RU" sz="4400" spc="-1" strike="noStrike">
                <a:solidFill>
                  <a:srgbClr val="393939"/>
                </a:solidFill>
                <a:latin typeface="Comic Sans MS"/>
              </a:rPr>
              <a:t>Роль молодежного сленга в английском языке </a:t>
            </a:r>
            <a:endParaRPr b="0" lang="en-US" sz="44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32080" y="1599840"/>
            <a:ext cx="725472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     </a:t>
            </a:r>
            <a:r>
              <a:rPr b="0" lang="ru-RU" sz="1800" spc="-1" strike="noStrike">
                <a:solidFill>
                  <a:srgbClr val="4c4c4c"/>
                </a:solidFill>
                <a:latin typeface="Comic Sans MS"/>
              </a:rPr>
              <a:t>Молодежный сленг в английском языке играет достаточно важную роль, которая определяет развитие всего языка в целом, его своеобразие  и отличие от других языков мира. Кроме этого молодежный сленг в английском языке позволяет общаться совершенно на новом уровне, не используя классических конструкций предложений и грамматических основ. А это говорит о том, что молодежь может общаться более раскованно и понимать друг друга  с полуслова. Надо также отметить, что сленг постоянно совершенствуется  и развивается, появляются новые выражения, которые быстро становятся популярными и активно используются  в речи. </a:t>
            </a: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4c4c4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c4c4c"/>
              </a:solidFill>
              <a:latin typeface="Arial"/>
            </a:endParaRPr>
          </a:p>
        </p:txBody>
      </p:sp>
    </p:spTree>
  </p:cSld>
  <p:transition advTm="47000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esentation Magazine</dc:creator>
  <dc:description/>
  <dc:language>en-US</dc:language>
  <cp:lastModifiedBy>Ильмира</cp:lastModifiedBy>
  <dcterms:modified xsi:type="dcterms:W3CDTF">2012-10-31T10:13:36Z</dcterms:modified>
  <cp:revision>164</cp:revision>
  <dc:subject/>
  <dc:title>British Flag powerpoint template</dc:title>
</cp:coreProperties>
</file>